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3C41-6EA7-427C-B836-43D3C04BB9B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91FB-3F88-49E6-873E-D3CBD8DE738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5921-C67D-4C69-8748-FE0EE533F9C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1682-9631-4940-BA2B-E5D70F43692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360B-8C91-4B3C-BD4E-B765E7FF496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3AFA-1B36-44C1-A7E8-60C43FB2220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26BF-1B7D-4E06-870D-43A38551225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2C9A-C7B4-40D4-A384-1D022936C66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EC15-6286-491B-BAD7-6504AECA4B2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2D56-E80C-42C2-B35C-12255A96D37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EBE1-8AC3-486C-AEF1-4FB74872B17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BAB9-F2C7-44FD-B3D1-5980BD627A2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672F-A518-46D6-BD74-9899E8BDD66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3361-00C5-4C9F-AA89-6415A72641E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BDFD-70C9-4B31-9AE2-D86CCA68250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FE88-CE31-402C-A722-DAC455D67D0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C10E-3EBD-4DFB-90AD-2AF13DA12A5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9DC4-2DF9-4101-B9D4-C7E8BA44C22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BE90-0DE9-4B04-9A8A-A610A790468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F952-540F-426E-AFC2-2BF819C3EBD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E873-5CE9-4440-A065-31B2C647F97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6E64-E64B-4BCA-AAD6-1461189F78B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05A3-6FD4-45B5-9EA2-979BFF1BD59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BE3E-50FA-4538-8277-9745538B8D3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BCFA-73B4-4D17-ACF1-B56F293A102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56C4-04F6-45F3-BFE1-B703C581B76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4737-4141-4F65-96E1-53458D7B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078-96D4-4AE6-980B-B6D292EE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7AF-C582-4D4F-A5BF-20052788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6F5-CB78-47ED-AD12-8A71AC5B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D4F-5185-4198-A519-EECD6441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ACE0-A46C-40D3-A569-EBB0CDE0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D86C-E4FD-49AB-8BF3-253B8DC2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BE18-F7D4-4EC1-AD96-755F8F7B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53A6-80BC-40A3-85E6-81C4B30F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11D-C8BB-42A3-91C5-CFB9A893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EDE8-0BD3-449C-986F-AF7F803C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5D8-7935-4B1A-AB7B-F6E46C7A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3E56-9A9B-414A-8115-F98EFEA2F3B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ΥΚΑ ΑΙΜΟΣΦΑΙΡ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ΜΟΝΟΠΥΡΗΝ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68000" y="126792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2-5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ορφολογία πυρήν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Μονήρης, χωρίς λοβ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υτταρόπλασμ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Δεν φέρει έντονη κοκκίωσ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Έχουν τη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γαλύτερη φαγοκυτταρική ικανότη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ακροφάγα των ιστών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μεταναστευτικ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οτελούν το κύριο τμήμα του Δ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ΙΚΤΥΟΕΝΔΟΘΗΛΙΑΚΟ ΣΥΣΤΗ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Είναι ένα φαγοκυτταρικό σύστημα που στηρίζεται στα </a:t>
            </a:r>
            <a:r>
              <a:rPr b="1" lang="el-GR" sz="2600" spc="-1" strike="noStrike" u="sng">
                <a:solidFill>
                  <a:srgbClr val="ff0000"/>
                </a:solidFill>
                <a:uFillTx/>
                <a:latin typeface="Arial"/>
              </a:rPr>
              <a:t>μακροφάγα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 των ιστών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ινούνται ελεύθερα διαμέσου του συνδετικού ιστού και συνήθως είναι καθηλωμένα σε ορισμένες περιοχέ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ε λοιμώξεις ενεργοποιούνται και μεταναστεύου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Υπάρχουν πολλά στους λεμφαδένες, το σπλήνα και το μυελό των οστώ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Ο ΠΕΡΙΛΑΜΒΑΝΕΙ ΤΟ ΔΙΚΤΥΟΕΝΔΟΘΗΛΙΑΚΟ ΣΥΣΤΗ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μακροφάγα των ιστ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Τα κυψελιδικά μακροφάγα των πνευμό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Τα κύτταρα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Kupffer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το ήπα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Τα κύτταρα της νευρογλοίας στο νευρικό σύστημ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ΩΓΗ ΛΕΥΚΟΚΥΤΤΑΡ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Αρχέγονα πολυδύναμα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(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002060"/>
                </a:solidFill>
                <a:uFillTx/>
                <a:latin typeface="Arial"/>
              </a:rPr>
              <a:t>Λεμφική σειρά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lang="el-GR" sz="3200" spc="-1" strike="noStrike" u="sng">
                <a:solidFill>
                  <a:srgbClr val="002060"/>
                </a:solidFill>
                <a:uFillTx/>
                <a:latin typeface="Arial"/>
              </a:rPr>
              <a:t>Μυελική σειρ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Β - λεμφοκύτταρα          Όλες οι άλλε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Τ - λεμφοκύτταρα            ομάδε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2700360" y="213372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6154560" y="213372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ΩΓΗ ΛΕΥΚΟΚΥΤΤΑΡ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9" name="Picture 4" descr="6"/>
          <p:cNvPicPr/>
          <p:nvPr/>
        </p:nvPicPr>
        <p:blipFill>
          <a:blip r:embed="rId1"/>
          <a:stretch/>
        </p:blipFill>
        <p:spPr>
          <a:xfrm>
            <a:off x="1476360" y="830160"/>
            <a:ext cx="662472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ΦΑΓΟΚΥΤΤΑΡΩΣ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"/>
          <p:cNvPicPr/>
          <p:nvPr/>
        </p:nvPicPr>
        <p:blipFill>
          <a:blip r:embed="rId1"/>
          <a:stretch/>
        </p:blipFill>
        <p:spPr>
          <a:xfrm>
            <a:off x="324000" y="1239840"/>
            <a:ext cx="828036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ΞΕΤΑΣΕΙΣ ΛΕΥΚΩΝ ΑΙΜΟΣΦΑΙΡ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1. Αριθμός λευκών αιμοσφαιρίων (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WB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2.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Λευκοκυτταρικός τύπ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ΡΙΘΜΟΣ ΛΕΥΚΩΝ (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WB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560" y="1268280"/>
            <a:ext cx="878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υσιολογικές Τιμές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Ενήλικες/Παιδιά &gt; 2 ετών : 5.000-10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Παιδιά ≤ 2 ετών : 6.200-17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Νεογνά : 9.000-30.000 /mm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ρμηνεία Εξέτασης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Τα επίπεδα των λευκών αιμοσφαιρίων </a:t>
            </a: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υξάνονται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σε περίπτωση λοίμωξης, τραύματος, στρες, νέκρωσης ιστού και σε περίπτωση νοσημάτων του αίματο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Τα επίπεδα των λευκών αιμοσφαιρίων </a:t>
            </a: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ιώνονται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σε πολλές μορφές ανεπάρκειας του μυελού των οστών, σε πολύ σοβαρές λοιμώξεις, σε διαιτητικές ελλείψεις, κατά τη λήψη τοξικών φαρμάκων καθώς και σε αυτοάνοσα νοσήμα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ΥΚΟΚΥΤΤΑΡΙΚΟΣ ΤΥΠ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560" y="1413000"/>
            <a:ext cx="8713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ρισμό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Είναι η ποσοστιαία (%) κατανομή των λευκοκυττάρων στους διάφορους τύπους λευκών αιμοσφαιρί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Φυσιολογικές Τιμές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Ουδετερόφιλα : 55-70 %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Λεμφοκύτταρα : 20-40 %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Μονοκύτταρα : 2-8 %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Ηωσινόφιλα : 1-4 %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Βασεόφιλα : 0.5-1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ΕΡΜΗΝΕΙΑ ΛΕΥΚΟΚΥΤΤΑΡΙΚΟΥ ΤΥΠ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560" y="907560"/>
            <a:ext cx="8713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Ουδετερόφιλα: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άνουν σε οξείες λοιμώξεις και τραύματα. Τα ουδετερόφιλα μειώνονται κατά τη λήψη ορισμένων φαρμάκων, σε αυτοάνοσα νοσήματα και σε διαταραχές της λειτουργίας του ανοσοποιητικού ή του μυελού των οστών.</a:t>
            </a:r>
            <a:br>
              <a:rPr sz="2400"/>
            </a:b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Λεμφοκύτταρα: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ημένα επίπεδα λεμφοκυττάρων παρατηρούνται σε περιπτώσεις ιογενών λοιμώξεων ή σε νοσήματα του αίματος. Μειώνονται σε διαταραχές της λειτουργίας του ανοσοποιητικού, κατά τη λήψη ανοσοκατασταλτικών φαρμάκων και σε χημειοθεραπείες.</a:t>
            </a:r>
            <a:br>
              <a:rPr sz="2400"/>
            </a:b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Μονοκύτταρα: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άνονται σε λοιμώξεις, σε νοσήματα του αίματος καθώς και σε χρόνιες φλεγμονές.</a:t>
            </a:r>
            <a:br>
              <a:rPr sz="2400"/>
            </a:b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Ηωσινόφιλα: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άνονται σε αλλεργίες, παρασιτώσεις, διάφορες δερματοπάθειες, σε νοσήματα του αίματος και σε αυτοάνοσα νοσήματα.</a:t>
            </a:r>
            <a:br>
              <a:rPr sz="2400"/>
            </a:b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Βασεόφιλα: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άνονται σε αλλεργικές αντιδράσε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ΥΚΑ ΑΙΜΟΣΦΑΙΡ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ΡΟΛΟ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Απομάκρυνση κατεστραμμένων ιστ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προστασία από τις λοιμώξεις και τα καρκινικά κύτταρα (ανοσολογική αντίδρασ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ΙΜΟΠΕΤΑΛ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496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θραύσματα κυττάρων του αίματος που περιέχουν οργανίδια και ένζυμα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λλά όχι πυρηνικό υλικό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ριθμός: 150-300 χιλ./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m3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ΩΓΗ ΑΙΜΟΠΕΤΑΛ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496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Προέρχονται από τα μεγαλοκύτταρα, που είναι γιγαντιαία πολυμορφοπύρηνα, που προέρχονται από τα αρχέγον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424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ΙΜΟΠΕΤΑΛΙΑ: ΡΟΛ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Βοηθούν στην πρόληψη ή στη διακοπή της αιμορραγίας, με τη διαδικασία της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ιμόσταση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απαραίτητα για την επούλωση τραυμάτων και τον σχηματισμό θρόμβων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ΞΕΤΑΣΕΙΣ ΑΙΜΟΠΕΛΑΤ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1. Αριθμός αιμοπεταλίων (PL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2. Μέσος Όγκος Αιμοπεταλίων (ΜPV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ΡΙΘΜΟΣ ΑΙΜΟΠΕΤΑΛ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07560"/>
            <a:ext cx="8856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υσιολογικές Τιμές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Ενήλικες : 150.000-450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Πρόωρα βρέφη : 100.000-300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Νεογνά : 150.000-300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Βρέφη : 200.000-475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Παιδιά : 150.000-400.000 /mm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ρμηνεία Εξέτασης</a:t>
            </a:r>
            <a:br>
              <a:rPr sz="2600"/>
            </a:b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Τα μειωμένα επίπεδα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αιμοπεταλίων (θρομβοκυτοπενία) μπορεί να οφείλονται σε μειωμένη παραγωγή ή σε αυξημένη καταστροφή τους εξαιτίας πολλών νοσημάτων. Η επίπονη άσκηση και η διαβίωση σε μεγάλο υψόμετρο μπορούν </a:t>
            </a: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να αυξήσουν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τα επίπεδα των αιμοπεταλίων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Η λήψη ορισμένων φαρμάκων μπορεί να οδηγήσει σε    αύξηση ή σε μείωση των αιμοπεταλί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928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ΜΕΣΟΣ ΟΓΚΟΣ ΑΙΜΠΕΤΑΛΙΩΝ (ΜPV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υσιολογικές Τιμές :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7,5-11,5 μm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ρμηνεία Εξέτασης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Ο MPV αποτελεί σημαντικό δείκτη του όγκου των αιμοπεταλίων και δείκτη αξιολόγησης των αιματολογικών και αιμορραγικών διαταραχώ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ΡΙΘΜΟΣ ΛΕΥΚΩΝ ΑΙΜΟΣΦΑΙΡ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ΑΡΙΘΜΟ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Φυσιολογικά: 4.000-10.000 /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mm</a:t>
            </a:r>
            <a:r>
              <a:rPr b="1" lang="el-GR" sz="2800" spc="-1" strike="noStrike" baseline="30000">
                <a:solidFill>
                  <a:srgbClr val="0020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Σε λοιμώξεις ή φλεγομονές: Σημαντική αύξη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ΥΠΟΙ ΛΕΥΚΩΝ ΑΙΜΟΣΦΑΙΡ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Με βάση την ιστολογική εμφάνι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Πολυμορφοπύρηνα κοκκιοκύττα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Ουδετερόφιλ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Ηωσινόφιλ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Βασεόφιλ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2. Μονοπύρηνα ακοκκιοκύττα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Λεμφοκύττα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Μονοπύρην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ΥΠΟΙ ΛΕΥΚΩΝ ΑΙΜΟΣΦΑΙΡ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70400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ΟΥΔΕΤΕΡΟΦΙΛ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60-70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ορφολογία πυρήν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Πολύμορφος, λοβώδ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υτταρόπλασμ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Φέρει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οκκία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λυσοσώματα), τα οποία περιέχουν ένζυμ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Έχουν μεγάλη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ινητικότη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ταστρέφουν μικροοργανισμούς μ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φαγοκύττωσ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γκυστώνουν θραύσματα ή ολόκληρους ξένους μικροοργανισμ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γκλωβίζουν το στόχο σε κοκκία (φαγοσώματα) που συγχωνεύονται με τα λυσοσώματα, με τα ένζυμα των οποίων πέπτουν τις οργανικές ύλ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ΗΩΣΙΝΟΦΙΛ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1-4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ορφολογία πυρήν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Πολύμορφος, λοβώδ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υτταρόπλασμ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Φέρει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οκκία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λυσοσώματα), τα οποία περιέχουν ένζυμ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ταστέφουν μικροοργανισμούς μ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φαγοκύττωσ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ταστροφή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παρασίτ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λλεργικέ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ντιδρά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ΒΑΣΕΟΦΙΛ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0,5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ορφολογία πυρήν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Πολύμορφος, λοβώδ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υτταρόπλασμ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Φέρει κοκκία, τα οποία περιέχουν ισταμίνη, ηπαρίνη και ένζυμ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Έχουν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φαγοκυτταρική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ικανότη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ελευθερώνουν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ισταμίνη και ηπαρίν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υμμετέχουν στις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λλεργικέ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ντιδρά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ΛΕΜΦΟΚΥΤΤΑΡ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68000" y="126792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25-30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ff0000"/>
                </a:solidFill>
                <a:uFillTx/>
                <a:latin typeface="Arial"/>
              </a:rPr>
              <a:t>Δεν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είναι φαγοκύτταρ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Έχουν κύριο ρόλο στις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νοσολογικέ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παντήσει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Διακρίνονται σε Β και Τ λεμφοκύτταρ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6:00:50Z</dcterms:created>
  <dc:creator>a</dc:creator>
  <dc:description/>
  <dc:language>en-US</dc:language>
  <cp:lastModifiedBy>Χρήστος</cp:lastModifiedBy>
  <dcterms:modified xsi:type="dcterms:W3CDTF">2015-03-12T08:30:43Z</dcterms:modified>
  <cp:revision>57</cp:revision>
  <dc:subject/>
  <dc:title>ΗΛΕΚΤΡΙΚΑ ΣΗΜΑΤΑ ΚΑΙ ΔΙΕΓΕΡΣΙΜΑ ΚΥΤΤΑΡΑ</dc:title>
</cp:coreProperties>
</file>